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75399"/>
        <c:axId val="43033331"/>
      </c:barChart>
      <c:catAx>
        <c:axId val="28275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3331"/>
        <c:crosses val="autoZero"/>
        <c:auto val="1"/>
        <c:lblAlgn val="ctr"/>
        <c:lblOffset val="100"/>
        <c:noMultiLvlLbl val="0"/>
      </c:catAx>
      <c:valAx>
        <c:axId val="4303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75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888-AE0B-433C-B095-7AEEF9BB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990-43D7-4096-AB05-DB86A4A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667-2EFB-4337-8944-F55BAF9B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770-A35B-44B4-A43A-6A592D0B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594-AF05-4437-B4A5-CFEE4D3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033-1BAD-44E6-9673-E7EFBC2B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D61-63CF-48D7-92EB-CCB8B71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DF5-B74E-4386-8681-B111AD2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47C-AAB7-4977-8070-818CDFA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EDC-333C-4F24-B5E0-66C6609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224-2FC1-408F-850E-A8E973A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50E-672A-4850-A389-BC67C18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B511-4F04-4480-8FBA-C7578CEC3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